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F42-A125-4115-A230-003D043D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287-7BCC-4F84-B88F-523BC094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4D7-7D10-4965-A4AA-BD457E37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1CD-5534-4989-98E4-6CDC90AF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B3C-D5EF-430D-BE8F-5A703A98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EF9-E9DE-493D-B695-8EA94E11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175-7871-4123-93B1-2EAADB94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BA8-7845-4F01-9A9F-BF39CAEC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EE9-2A2C-4EFF-803D-468B2A36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4A3-CC57-42CE-8216-34FC736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0B6-3F65-4CF8-9C17-7A579B7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0CC-6555-4F17-B478-522DACE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A4D-8A69-4346-B57C-F5DE6DC24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109440"/>
            <a:ext cx="9864720" cy="712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Biotechnolog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-61920"/>
            <a:ext cx="101538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2599" r="0" b="12599"/>
          <a:stretch/>
        </p:blipFill>
        <p:spPr>
          <a:xfrm>
            <a:off x="-54000" y="-2187720"/>
            <a:ext cx="9198000" cy="110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00:36:43Z</dcterms:created>
  <dc:creator>DET User</dc:creator>
  <dc:description/>
  <dc:language>en-US</dc:language>
  <cp:lastModifiedBy>DET User</cp:lastModifiedBy>
  <dcterms:modified xsi:type="dcterms:W3CDTF">2009-06-02T05:43:22Z</dcterms:modified>
  <cp:revision>4</cp:revision>
  <dc:subject/>
  <dc:title>Biotechnology</dc:title>
</cp:coreProperties>
</file>